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EE7-46F4-44EB-88D8-DA8B0359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670-4BD5-48E3-AD05-4BEEF3E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E63-915B-4064-ABF6-B4E00898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B62-DD08-48DC-8C82-449FD475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A98C-A389-4758-9232-55B3F9EF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7C9-8473-4481-8DCB-E678E04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B2B-6BC3-44C2-8503-EEBB4393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8AF7-1D7D-4662-8AA1-BBB9493C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F2B-94CF-4E92-A2B7-448DF30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3B5-A2CF-4289-925F-B62E000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C5E-BF98-4BB7-B189-A016B99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50A-323C-477C-9ADD-27C76A8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7D3-DFB4-40C9-A517-896C8F7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73C7-3086-439F-85DC-57108AC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6DE3-9E97-4CA5-AFE3-3FFAE55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9504-8662-4E8A-81D2-4096F60D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265-DCD1-44E9-975E-0B893A69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40D-BE9C-4BCB-AC7E-351EACC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F18-14CC-41A6-A853-817E6EAD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FBE-4F2A-4D67-8AB5-3BA89C70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5E2-B7AE-4D2A-9485-4BA66B9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214-5EBA-4C78-9661-5BDD504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F4F-AF9D-4017-8431-545EF42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26D-C21F-4C53-9C60-384015B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3A8-4F73-40E0-BF16-64262597C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A02-C533-4604-99B8-AE96A94B6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sing Exponents to Write</a:t>
            </a: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Large Number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8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2971800"/>
            <a:ext cx="26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8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9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25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276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97180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8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97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996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97180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6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5240" y="2666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3124080"/>
            <a:ext cx="6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4267080"/>
            <a:ext cx="419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297180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88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50160" y="2666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26708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7180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7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54720" y="2743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26708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9718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Exponent For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2336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18400" y="2743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12408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670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9718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1360440" cy="1451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64040" y="0"/>
            <a:ext cx="77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or Learning to Happe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743200"/>
            <a:ext cx="8053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ear your desk of anything that ma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act 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ove all other thoughts from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 close atten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y all the examp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gnore all other distrac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Standard For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se Te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956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895480"/>
            <a:ext cx="87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95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9560" y="4267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956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5257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8720" y="27432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3800" y="365760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1520" y="44956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9240" y="533412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xponent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ice that the number of ze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es the exponent numb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9560" y="266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895480"/>
            <a:ext cx="87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95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9560" y="4267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956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257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8720" y="27432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3800" y="3657600"/>
            <a:ext cx="172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1520" y="44956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8880" y="5334120"/>
            <a:ext cx="24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ltiplying Multiple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ultiply These Numb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1240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114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50292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480" y="228600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 x 2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,000 x 3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480" y="426708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,000 x 7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257800"/>
            <a:ext cx="39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,000 x 9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6095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8560" y="2286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2767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3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426708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7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1000" y="525780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9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ltiplying Multiples of T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 that all yo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to do is multiply 1 x wh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mber &amp; add the zeros behin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7339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4495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4864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480" y="289548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2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37339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3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480" y="464832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7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562720"/>
            <a:ext cx="39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x 9 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6400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895480"/>
            <a:ext cx="12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37339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3,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7320" y="4648320"/>
            <a:ext cx="20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4680" y="5562720"/>
            <a:ext cx="24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hort Cut for Writing Large Numb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bine these two steps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ing large numb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7440" y="4724280"/>
            <a:ext cx="737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 x (10 x 10) = 6 x 100 = 6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9240" y="297180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hort Cut for Writing Large Numb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member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xponent is the same as the number of zero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560" y="335268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3440" y="3276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3640" y="35812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47242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9240" y="335268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3581280"/>
            <a:ext cx="1143000" cy="9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352680"/>
            <a:ext cx="609480" cy="762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Standard Numb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4240" y="2971800"/>
            <a:ext cx="332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 x 10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1160" y="29718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5040" y="31240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267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9240" y="297180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6T04:44:18Z</dcterms:created>
  <dc:creator>Monica/Bob Yuskaitis</dc:creator>
  <dc:description/>
  <dc:language>en-US</dc:language>
  <cp:lastModifiedBy> </cp:lastModifiedBy>
  <dcterms:modified xsi:type="dcterms:W3CDTF">2008-09-08T04:32:13Z</dcterms:modified>
  <cp:revision>11</cp:revision>
  <dc:subject/>
  <dc:title>Exponents</dc:title>
</cp:coreProperties>
</file>